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8.jpeg" ContentType="image/jpeg"/>
  <Override PartName="/ppt/media/image12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5.wmf" ContentType="image/x-wmf"/>
  <Override PartName="/ppt/media/image1.jpeg" ContentType="image/jpe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F00-51AF-48B6-AB89-BB1D37A3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78A-CA17-4C97-9281-840B1C40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F5F-2F03-4386-B6BE-0868437E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42C-7D96-4074-87ED-2A936C22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E8A-B6CD-4054-A5D6-ACC05BD4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8C9-F10A-49A6-A475-C16EADDC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A6A-2D51-41A9-98A3-15796151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E10-9DA6-4E03-BF05-4BAD2029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8817-377C-4400-BE48-B643C42B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B09-2189-4D99-A55B-2D44846F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734-5D7B-483C-B2F7-6D71398D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D33-CABD-4D06-AF32-8BE1A543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8131-F66C-4F32-AFAF-FBFE76746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aciej.komosinski@cs.put.poznan.pl" TargetMode="External"/><Relationship Id="rId3" Type="http://schemas.openxmlformats.org/officeDocument/2006/relationships/hyperlink" Target="mailto:maciej.komosinski@cs.put.poznan.pl" TargetMode="External"/><Relationship Id="rId4" Type="http://schemas.openxmlformats.org/officeDocument/2006/relationships/hyperlink" Target="http://www.cs.put.poznan.pl/mkomosinski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bernard@prometeus.pl" TargetMode="External"/><Relationship Id="rId3" Type="http://schemas.openxmlformats.org/officeDocument/2006/relationships/hyperlink" Target="mailto:wrubli@wp.pl" TargetMode="External"/><Relationship Id="rId4" Type="http://schemas.openxmlformats.org/officeDocument/2006/relationships/image" Target="../media/image17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rams.poznan.pl/" TargetMode="External"/><Relationship Id="rId3" Type="http://schemas.openxmlformats.org/officeDocument/2006/relationships/hyperlink" Target="http://www.frams.poznan.pl/" TargetMode="External"/><Relationship Id="rId4" Type="http://schemas.openxmlformats.org/officeDocument/2006/relationships/hyperlink" Target="http://www.frams.poznan.pl/dev/fred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yippee.net/html/win/Entertainment/title5455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028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5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200" spc="-1" strike="noStrike">
                <a:solidFill>
                  <a:srgbClr val="000000"/>
                </a:solidFill>
                <a:latin typeface="Arial"/>
              </a:rPr>
              <a:t>FR</a:t>
            </a:r>
            <a:r>
              <a:rPr b="0" i="1" lang="pl-PL" sz="5200" spc="-1" strike="noStrike">
                <a:solidFill>
                  <a:srgbClr val="000000"/>
                </a:solidFill>
                <a:latin typeface="Arial"/>
              </a:rPr>
              <a:t>amsticks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2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i="1" lang="pl-PL" sz="5200" spc="-1" strike="noStrike">
                <a:solidFill>
                  <a:srgbClr val="000000"/>
                </a:solidFill>
                <a:latin typeface="Arial"/>
              </a:rPr>
              <a:t>itor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lideD5%5B1%5D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4263840" cy="3197520"/>
          </a:xfrm>
          <a:prstGeom prst="rect">
            <a:avLst/>
          </a:prstGeom>
          <a:ln w="0">
            <a:noFill/>
          </a:ln>
        </p:spPr>
      </p:pic>
      <p:pic>
        <p:nvPicPr>
          <p:cNvPr id="43" name="fred-frams-small" descr=""/>
          <p:cNvPicPr/>
          <p:nvPr/>
        </p:nvPicPr>
        <p:blipFill>
          <a:blip r:embed="rId3"/>
          <a:stretch/>
        </p:blipFill>
        <p:spPr>
          <a:xfrm>
            <a:off x="1654200" y="358920"/>
            <a:ext cx="533412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38120" y="358560"/>
            <a:ext cx="44197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Impact"/>
              </a:rPr>
              <a:t>Architektura systemu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352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2971800"/>
            <a:ext cx="1600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09480" y="533520"/>
          <a:ext cx="7848720" cy="549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784872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fred-frams-small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281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57240" y="358560"/>
            <a:ext cx="4800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Impact"/>
              </a:rPr>
              <a:t>Dla kogo</a:t>
            </a:r>
            <a:r>
              <a:rPr b="0" lang="en-US" sz="50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038120" y="2057400"/>
            <a:ext cx="4800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500" spc="-1" strike="noStrike">
                <a:solidFill>
                  <a:srgbClr val="000000"/>
                </a:solidFill>
                <a:latin typeface="Arial"/>
              </a:rPr>
              <a:t>Klient i promotor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r inż. Maciej Komosińsk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maciej.komosinski@cs.put.poznan.</a:t>
            </a:r>
            <a:r>
              <a:rPr b="0" lang="pl-PL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cs.put.poznan.pl/mkomosin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k3" descr=""/>
          <p:cNvPicPr/>
          <p:nvPr/>
        </p:nvPicPr>
        <p:blipFill>
          <a:blip r:embed="rId5"/>
          <a:stretch/>
        </p:blipFill>
        <p:spPr>
          <a:xfrm>
            <a:off x="304920" y="2438280"/>
            <a:ext cx="3292200" cy="2470320"/>
          </a:xfrm>
          <a:prstGeom prst="rect">
            <a:avLst/>
          </a:prstGeom>
          <a:ln w="0">
            <a:noFill/>
          </a:ln>
        </p:spPr>
      </p:pic>
      <p:pic>
        <p:nvPicPr>
          <p:cNvPr id="86" name="fred-frams-small" descr=""/>
          <p:cNvPicPr/>
          <p:nvPr/>
        </p:nvPicPr>
        <p:blipFill>
          <a:blip r:embed="rId6"/>
          <a:stretch/>
        </p:blipFill>
        <p:spPr>
          <a:xfrm>
            <a:off x="304920" y="228600"/>
            <a:ext cx="281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57240" y="358560"/>
            <a:ext cx="4800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00000"/>
                </a:solidFill>
                <a:latin typeface="Impact"/>
              </a:rPr>
              <a:t>Dla kogo</a:t>
            </a:r>
            <a:r>
              <a:rPr b="0" lang="pl-PL" sz="5000" spc="-1" strike="noStrike">
                <a:solidFill>
                  <a:srgbClr val="000000"/>
                </a:solidFill>
                <a:latin typeface="Arial Black"/>
              </a:rPr>
              <a:t>?</a:t>
            </a:r>
            <a:r>
              <a:rPr b="0" lang="pl-PL" sz="5000" spc="-1" strike="noStrike">
                <a:solidFill>
                  <a:srgbClr val="000000"/>
                </a:solidFill>
                <a:latin typeface="Impact"/>
              </a:rPr>
              <a:t> – c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 algn="ctr">
              <a:lnSpc>
                <a:spcPct val="130000"/>
              </a:lnSpc>
              <a:spcBef>
                <a:spcPts val="751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zyszli użytkowni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atorzy i profesjonaliści z następujących dziedzi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zyka (mechanika, symulacj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olog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tuczna inteligencja oraz sztuczne życ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yk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żytkownicy głównie zagranicz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fred-frams-small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81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38120" y="358560"/>
            <a:ext cx="4800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Impact"/>
              </a:rPr>
              <a:t>M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2160" y="1295280"/>
            <a:ext cx="46479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O – 4 r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ierownik projektu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Bernard L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łówny anality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Michał Wróblew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O – 5 r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wadzący spotkani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Marcin Oko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ierownik weryfikacj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Dominik Smogó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D05515_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2544840" cy="2735280"/>
          </a:xfrm>
          <a:prstGeom prst="rect">
            <a:avLst/>
          </a:prstGeom>
          <a:ln w="0">
            <a:noFill/>
          </a:ln>
        </p:spPr>
      </p:pic>
      <p:pic>
        <p:nvPicPr>
          <p:cNvPr id="93" name="fred-frams-small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281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2520" y="358560"/>
            <a:ext cx="44956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Impact"/>
              </a:rPr>
              <a:t>Technologi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43040" y="16765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av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FC/S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pl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dx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S00580_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2895480" cy="2438640"/>
          </a:xfrm>
          <a:prstGeom prst="rect">
            <a:avLst/>
          </a:prstGeom>
          <a:ln w="0">
            <a:noFill/>
          </a:ln>
        </p:spPr>
      </p:pic>
      <p:pic>
        <p:nvPicPr>
          <p:cNvPr id="97" name="fred-frams-small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281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9520" y="358560"/>
            <a:ext cx="4800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Impact"/>
              </a:rPr>
              <a:t>Kogo szukamy</a:t>
            </a:r>
            <a:r>
              <a:rPr b="0" lang="en-US" sz="50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505320" y="2361960"/>
            <a:ext cx="54100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 algn="just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 oso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grany zespó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najomość Javy (zwłaszcza GU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ęzyk angiel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E03302_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2749680" cy="1974600"/>
          </a:xfrm>
          <a:prstGeom prst="rect">
            <a:avLst/>
          </a:prstGeom>
          <a:ln w="0">
            <a:noFill/>
          </a:ln>
        </p:spPr>
      </p:pic>
      <p:pic>
        <p:nvPicPr>
          <p:cNvPr id="101" name="fred-frams-small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281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33560" y="358560"/>
            <a:ext cx="480060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Impact"/>
              </a:rPr>
              <a:t>Dlaczego właśnie FRED</a:t>
            </a:r>
            <a:r>
              <a:rPr b="0" lang="en-US" sz="50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76720" y="2133360"/>
            <a:ext cx="5333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ły świat czeka na FRED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3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ekawa tematyka i dziedzina zastos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oczesne tech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ła atmosfera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a w gru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AN02354_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2587680" cy="2724120"/>
          </a:xfrm>
          <a:prstGeom prst="rect">
            <a:avLst/>
          </a:prstGeom>
          <a:ln w="0">
            <a:noFill/>
          </a:ln>
        </p:spPr>
      </p:pic>
      <p:pic>
        <p:nvPicPr>
          <p:cNvPr id="105" name="fred-frams-small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281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33560" y="358560"/>
            <a:ext cx="4800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Impact"/>
              </a:rPr>
              <a:t>Kontak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19520" y="1447920"/>
            <a:ext cx="5943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850"/>
              </a:spcBef>
              <a:spcAft>
                <a:spcPts val="21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Arial"/>
              </a:rPr>
              <a:t>Nasze maile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bernard@prometeus.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rubli@wp.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Arial"/>
              </a:rPr>
              <a:t>Termin i miejsce spotkań 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roda 16:45, pokój 19 (klub profesorsk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IN00931_" descr=""/>
          <p:cNvPicPr/>
          <p:nvPr/>
        </p:nvPicPr>
        <p:blipFill>
          <a:blip r:embed="rId4"/>
          <a:stretch/>
        </p:blipFill>
        <p:spPr>
          <a:xfrm>
            <a:off x="762120" y="3581280"/>
            <a:ext cx="1396800" cy="847800"/>
          </a:xfrm>
          <a:prstGeom prst="rect">
            <a:avLst/>
          </a:prstGeom>
          <a:ln w="0">
            <a:noFill/>
          </a:ln>
        </p:spPr>
      </p:pic>
      <p:pic>
        <p:nvPicPr>
          <p:cNvPr id="109" name="fred-frams-small" descr=""/>
          <p:cNvPicPr/>
          <p:nvPr/>
        </p:nvPicPr>
        <p:blipFill>
          <a:blip r:embed="rId5"/>
          <a:stretch/>
        </p:blipFill>
        <p:spPr>
          <a:xfrm>
            <a:off x="304920" y="228600"/>
            <a:ext cx="281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33560" y="358560"/>
            <a:ext cx="4800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Impact"/>
              </a:rPr>
              <a:t>Więcej informacji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51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trona WWW Framsticków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frams.poznan.</a:t>
            </a:r>
            <a:r>
              <a:rPr b="0" lang="pl-PL" sz="3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p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1874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trona WWW projektu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frams.poznan.pl/dev/f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info" descr=""/>
          <p:cNvPicPr/>
          <p:nvPr/>
        </p:nvPicPr>
        <p:blipFill>
          <a:blip r:embed="rId5"/>
          <a:stretch/>
        </p:blipFill>
        <p:spPr>
          <a:xfrm>
            <a:off x="304920" y="2209680"/>
            <a:ext cx="2365200" cy="1989360"/>
          </a:xfrm>
          <a:prstGeom prst="rect">
            <a:avLst/>
          </a:prstGeom>
          <a:ln w="0">
            <a:noFill/>
          </a:ln>
        </p:spPr>
      </p:pic>
      <p:pic>
        <p:nvPicPr>
          <p:cNvPr id="113" name="fred-frams-small" descr=""/>
          <p:cNvPicPr/>
          <p:nvPr/>
        </p:nvPicPr>
        <p:blipFill>
          <a:blip r:embed="rId6"/>
          <a:stretch/>
        </p:blipFill>
        <p:spPr>
          <a:xfrm>
            <a:off x="304920" y="228600"/>
            <a:ext cx="281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6600" spc="-1" strike="noStrike">
                <a:solidFill>
                  <a:srgbClr val="000000"/>
                </a:solidFill>
                <a:latin typeface="Arial Black"/>
              </a:rPr>
              <a:t>FRED</a:t>
            </a:r>
            <a:r>
              <a:rPr b="0" lang="pl-PL" sz="5600" spc="-1" strike="noStrike">
                <a:solidFill>
                  <a:srgbClr val="000000"/>
                </a:solidFill>
                <a:latin typeface="Arial Black"/>
              </a:rPr>
              <a:t> = wizualny edytor Framsticków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fred-frams-small" descr=""/>
          <p:cNvPicPr/>
          <p:nvPr/>
        </p:nvPicPr>
        <p:blipFill>
          <a:blip r:embed="rId2"/>
          <a:stretch/>
        </p:blipFill>
        <p:spPr>
          <a:xfrm>
            <a:off x="1654200" y="358920"/>
            <a:ext cx="533412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581280" y="1447560"/>
            <a:ext cx="51818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to takiego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ulator ewolucji sztucznych stworzeń w sztucznym środowisku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worzenie warunków możliwie zbliżonych do ziemski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badanie możliwości ewolucji w takich warunka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038120" y="358560"/>
            <a:ext cx="441972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00000"/>
                </a:solidFill>
                <a:latin typeface="Impact"/>
              </a:rPr>
              <a:t>Framstick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fred-frams-small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281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657240" y="1600200"/>
            <a:ext cx="51814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0" algn="ctr">
              <a:lnSpc>
                <a:spcPct val="120000"/>
              </a:lnSpc>
              <a:spcBef>
                <a:spcPts val="751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kt o światowej sław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2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groda za wyróżniającą się pracę w dziedzinie Sztucznego Życia - 5-ta Europejska Konferencja o Sztucznym Życiu (ECAL '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2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ele pokazów na międzynarodowych konferencj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2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ykuły i wywiady na temat projektu w mediach krajowych i zagranicznych (nie tylko profesjonalny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12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12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266720" y="380880"/>
            <a:ext cx="44197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00000"/>
                </a:solidFill>
                <a:latin typeface="Impact"/>
              </a:rPr>
              <a:t>Framsticks – c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wardZdnet4star2000" descr=""/>
          <p:cNvPicPr/>
          <p:nvPr/>
        </p:nvPicPr>
        <p:blipFill>
          <a:blip r:embed="rId2"/>
          <a:stretch/>
        </p:blipFill>
        <p:spPr>
          <a:xfrm>
            <a:off x="1447920" y="4419720"/>
            <a:ext cx="949320" cy="925560"/>
          </a:xfrm>
          <a:prstGeom prst="rect">
            <a:avLst/>
          </a:prstGeom>
          <a:ln w="0">
            <a:noFill/>
          </a:ln>
        </p:spPr>
      </p:pic>
      <p:pic>
        <p:nvPicPr>
          <p:cNvPr id="53" name="awardYippee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5943600"/>
            <a:ext cx="1143000" cy="525600"/>
          </a:xfrm>
          <a:prstGeom prst="rect">
            <a:avLst/>
          </a:prstGeom>
          <a:ln w="0">
            <a:noFill/>
          </a:ln>
        </p:spPr>
      </p:pic>
      <p:pic>
        <p:nvPicPr>
          <p:cNvPr id="54" name="awardAgentLand" descr=""/>
          <p:cNvPicPr/>
          <p:nvPr/>
        </p:nvPicPr>
        <p:blipFill>
          <a:blip r:embed="rId5"/>
          <a:stretch/>
        </p:blipFill>
        <p:spPr>
          <a:xfrm>
            <a:off x="2057400" y="5715000"/>
            <a:ext cx="1371600" cy="285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2480" y="60958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  <a:ea typeface="Arial"/>
              </a:rPr>
              <a:t>Rated 4/5 by AgentL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380880" y="182880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57" name="fred-frams-small" descr=""/>
          <p:cNvPicPr/>
          <p:nvPr/>
        </p:nvPicPr>
        <p:blipFill>
          <a:blip r:embed="rId7"/>
          <a:stretch/>
        </p:blipFill>
        <p:spPr>
          <a:xfrm>
            <a:off x="304920" y="228600"/>
            <a:ext cx="281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33920" y="358560"/>
            <a:ext cx="4419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Impact"/>
              </a:rPr>
              <a:t>Dzisiaj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0" y="2819520"/>
          <a:ext cx="4869000" cy="365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819520"/>
                    <a:ext cx="486900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14400" y="1600200"/>
            <a:ext cx="769608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enotype </a:t>
            </a:r>
            <a:r>
              <a:rPr b="1" i="1" lang="pl-PL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evelopment </a:t>
            </a:r>
            <a:r>
              <a:rPr b="1" i="1" lang="pl-PL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– obecne narzędzie do edycji i tworzenia Framstickó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fred-frams-small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281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roblemy z GDK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51"/>
              </a:spcBef>
              <a:spcAft>
                <a:spcPts val="18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kstowa edycja genotypu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51"/>
              </a:spcBef>
              <a:spcAft>
                <a:spcPts val="18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nieczność dobrej znajomości języka opisu genotyp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d programu napisany w C++ – nie jest przenośny między różnymi systemam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962520" y="358560"/>
            <a:ext cx="4419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Impact"/>
              </a:rPr>
              <a:t>Dzisiaj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red-frams-small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81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19520" y="1447920"/>
            <a:ext cx="5943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49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Rozwiązanie problemów z GD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tuicyjny graficzny edy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(drag and drop, operacje typu copy / paste / zoom / rotate, palety elementó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miana platform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– aplikacja napisana w 100% w Jav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038120" y="358560"/>
            <a:ext cx="441972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Impact"/>
              </a:rPr>
              <a:t>Jutro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D04924_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2022480" cy="2727360"/>
          </a:xfrm>
          <a:prstGeom prst="rect">
            <a:avLst/>
          </a:prstGeom>
          <a:ln w="0">
            <a:noFill/>
          </a:ln>
        </p:spPr>
      </p:pic>
      <p:pic>
        <p:nvPicPr>
          <p:cNvPr id="69" name="fred-frams-small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281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2437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 algn="just">
              <a:lnSpc>
                <a:spcPct val="120000"/>
              </a:lnSpc>
              <a:spcBef>
                <a:spcPts val="751"/>
              </a:spcBef>
              <a:spcAft>
                <a:spcPts val="18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ójwymiarowy edytor organizmó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51"/>
              </a:spcBef>
              <a:spcAft>
                <a:spcPts val="18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spółpraca z programami zewnętrznym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ocena, konwersja lub mutacja genotypów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51"/>
              </a:spcBef>
              <a:spcAft>
                <a:spcPts val="18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spółpraca z bazą genotypów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zez WW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228600"/>
            <a:ext cx="49532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Impact"/>
              </a:rPr>
              <a:t>Funkcjonalność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Impact"/>
              </a:rPr>
              <a:t>FRED-a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spcAft>
                <a:spcPts val="31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fred-frams-small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81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23520" y="3581280"/>
            <a:ext cx="48769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876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500" spc="-1" strike="noStrike">
                <a:solidFill>
                  <a:srgbClr val="000000"/>
                </a:solidFill>
                <a:latin typeface="Arial"/>
              </a:rPr>
              <a:t>aple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876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500" spc="-1" strike="noStrike">
                <a:solidFill>
                  <a:srgbClr val="000000"/>
                </a:solidFill>
                <a:latin typeface="Arial"/>
              </a:rPr>
              <a:t>wizualizacja osobnik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26"/>
              </a:spcBef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500" spc="-1" strike="noStrike">
                <a:solidFill>
                  <a:srgbClr val="000000"/>
                </a:solidFill>
                <a:latin typeface="Arial"/>
              </a:rPr>
              <a:t>brak możliwości edycji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26"/>
              </a:spcBef>
              <a:spcAft>
                <a:spcPts val="10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380880"/>
            <a:ext cx="5486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Impact"/>
              </a:rPr>
              <a:t>FAVI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832040"/>
            <a:ext cx="7620120" cy="11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spcBef>
                <a:spcPts val="8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pl-PL" sz="3400" spc="-1" strike="noStrike">
                <a:solidFill>
                  <a:srgbClr val="000000"/>
                </a:solidFill>
                <a:latin typeface="Arial"/>
              </a:rPr>
              <a:t>ramsticks </a:t>
            </a:r>
            <a:r>
              <a:rPr b="1" i="1" lang="pl-PL" sz="3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l-PL" sz="3400" spc="-1" strike="noStrike">
                <a:solidFill>
                  <a:srgbClr val="000000"/>
                </a:solidFill>
                <a:latin typeface="Arial"/>
              </a:rPr>
              <a:t>pplet </a:t>
            </a:r>
            <a:r>
              <a:rPr b="1" i="1" lang="pl-PL" sz="34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i="1" lang="pl-PL" sz="3400" spc="-1" strike="noStrike">
                <a:solidFill>
                  <a:srgbClr val="000000"/>
                </a:solidFill>
                <a:latin typeface="Arial"/>
              </a:rPr>
              <a:t>ewer </a:t>
            </a:r>
            <a:r>
              <a:rPr b="0" lang="pl-PL" sz="3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0" lang="pl-PL" sz="3400" spc="-1" strike="noStrike">
                <a:solidFill>
                  <a:srgbClr val="000000"/>
                </a:solidFill>
                <a:latin typeface="Arial"/>
              </a:rPr>
              <a:t>młodsza siostra</a:t>
            </a:r>
            <a:r>
              <a:rPr b="0" lang="pl-PL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0" lang="pl-PL" sz="3400" spc="-1" strike="noStrike">
                <a:solidFill>
                  <a:srgbClr val="000000"/>
                </a:solidFill>
                <a:latin typeface="Arial"/>
              </a:rPr>
              <a:t> FRED-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fred-frams-small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81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6:22:28Z</dcterms:created>
  <dc:creator>Michał Wróblewski</dc:creator>
  <dc:description/>
  <dc:language>en-US</dc:language>
  <cp:lastModifiedBy>Ralphie</cp:lastModifiedBy>
  <dcterms:modified xsi:type="dcterms:W3CDTF">2001-12-05T00:30:01Z</dcterms:modified>
  <cp:revision>715</cp:revision>
  <dc:subject/>
  <dc:title>Prezentacja programu PowerPoint</dc:title>
</cp:coreProperties>
</file>