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9.wmf" ContentType="image/x-wmf"/>
  <Override PartName="/ppt/media/image14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2.jpeg" ContentType="image/jpe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60DF-4EE6-4357-8B41-E6ED448F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408F-B37B-4B9C-96B9-BD4F576F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1444-85C4-4B09-8D5D-49794EB5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B844-C675-4824-B546-D498850F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850D-5B49-404E-B021-AFEF7936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2D0-B735-490A-82FE-097D4AB7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39BF-B98B-4BE0-BC85-A84C002E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0BF-495E-4E2B-88B3-562C7643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EDB9-E293-4B10-A43A-895082A0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AF3F-6950-4F10-85CE-4A582E4A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0FBA-EE81-40D1-BC1B-1A38A8F3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786-8CDF-4C0D-9D77-23A0583D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56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1A7D-B87D-4F7C-AF3B-971C8E475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hyperlink" Target="proto\fred.exe" TargetMode="External"/><Relationship Id="rId4" Type="http://schemas.openxmlformats.org/officeDocument/2006/relationships/image" Target="../media/image11.png"/><Relationship Id="rId5" Type="http://schemas.openxmlformats.org/officeDocument/2006/relationships/oleObject" Target="../embeddings/oleObject2.bin"/><Relationship Id="rId6" Type="http://schemas.openxmlformats.org/officeDocument/2006/relationships/hyperlink" Target="proto\fred.exe" TargetMode="External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52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200" spc="-1" strike="noStrike">
                <a:solidFill>
                  <a:srgbClr val="000000"/>
                </a:solidFill>
                <a:latin typeface="Arial"/>
              </a:rPr>
              <a:t>FR</a:t>
            </a:r>
            <a:r>
              <a:rPr b="0" i="1" lang="pl-PL" sz="5200" spc="-1" strike="noStrike">
                <a:solidFill>
                  <a:srgbClr val="000000"/>
                </a:solidFill>
                <a:latin typeface="Arial"/>
              </a:rPr>
              <a:t>amsticks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2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i="1" lang="pl-PL" sz="5200" spc="-1" strike="noStrike">
                <a:solidFill>
                  <a:srgbClr val="000000"/>
                </a:solidFill>
                <a:latin typeface="Arial"/>
              </a:rPr>
              <a:t>itor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lideD5%5B1%5D" descr=""/>
          <p:cNvPicPr/>
          <p:nvPr/>
        </p:nvPicPr>
        <p:blipFill>
          <a:blip r:embed="rId2"/>
          <a:stretch/>
        </p:blipFill>
        <p:spPr>
          <a:xfrm>
            <a:off x="304920" y="2514600"/>
            <a:ext cx="4263840" cy="3197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3885840" y="6091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Impact"/>
              </a:rPr>
              <a:t>Podsumowani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rezentacja-logo-new" descr=""/>
          <p:cNvPicPr/>
          <p:nvPr/>
        </p:nvPicPr>
        <p:blipFill>
          <a:blip r:embed="rId3"/>
          <a:stretch/>
        </p:blipFill>
        <p:spPr>
          <a:xfrm>
            <a:off x="152280" y="76320"/>
            <a:ext cx="3897360" cy="12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500" spc="-1" strike="noStrike">
                <a:solidFill>
                  <a:srgbClr val="000000"/>
                </a:solidFill>
                <a:latin typeface="Impact"/>
              </a:rPr>
              <a:t>Trudności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523520"/>
            <a:ext cx="4114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żo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pewnienie odpowiedniej jakości produ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ieczność znajdowania wspólnych element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k doświadczenia w tworzeniu edytorów graficz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01616_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369756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500" spc="-1" strike="noStrike">
                <a:solidFill>
                  <a:srgbClr val="000000"/>
                </a:solidFill>
                <a:latin typeface="Impact"/>
              </a:rPr>
              <a:t>Architektura systemu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429000" y="1905120"/>
          <a:ext cx="2209680" cy="155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1905120"/>
                    <a:ext cx="220968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965760" y="114300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397320" y="4643280"/>
          <a:ext cx="2241360" cy="1681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97320" y="4643280"/>
                    <a:ext cx="224136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4498200" y="563868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-228600" y="3436920"/>
            <a:ext cx="3184200" cy="2038320"/>
            <a:chOff x="-228600" y="3436920"/>
            <a:chExt cx="3184200" cy="2038320"/>
          </a:xfrm>
        </p:grpSpPr>
        <p:pic>
          <p:nvPicPr>
            <p:cNvPr id="88" name="server1" descr=""/>
            <p:cNvPicPr/>
            <p:nvPr/>
          </p:nvPicPr>
          <p:blipFill>
            <a:blip r:embed="rId6"/>
            <a:stretch/>
          </p:blipFill>
          <p:spPr>
            <a:xfrm>
              <a:off x="794880" y="3436920"/>
              <a:ext cx="1141560" cy="10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-228600" y="4284000"/>
              <a:ext cx="3184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A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ENOTYPÓ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0" name=""/>
          <p:cNvGraphicFramePr/>
          <p:nvPr/>
        </p:nvGraphicFramePr>
        <p:xfrm>
          <a:off x="7081920" y="2090880"/>
          <a:ext cx="1224000" cy="110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1920" y="2090880"/>
                    <a:ext cx="122400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597720" y="3429000"/>
            <a:ext cx="23176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EWNĘTRZ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905120" y="2819520"/>
            <a:ext cx="1447560" cy="8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27432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70840" y="4114800"/>
            <a:ext cx="36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ZEGLĄDARKA 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572000"/>
            <a:ext cx="13716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500" spc="-1" strike="noStrike">
                <a:solidFill>
                  <a:srgbClr val="000000"/>
                </a:solidFill>
                <a:latin typeface="Impact"/>
              </a:rPr>
              <a:t>Funkcjonalność systemu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" y="866880"/>
            <a:ext cx="89154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500" spc="-1" strike="noStrike">
                <a:solidFill>
                  <a:srgbClr val="000000"/>
                </a:solidFill>
                <a:latin typeface="Impact"/>
              </a:rPr>
              <a:t>Funkcjonalność systemu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8600" y="798480"/>
            <a:ext cx="89139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500" spc="-1" strike="noStrike">
                <a:solidFill>
                  <a:srgbClr val="000000"/>
                </a:solidFill>
                <a:latin typeface="Impact"/>
              </a:rPr>
              <a:t>Funkcjonalność systemu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-76320" y="1519200"/>
            <a:ext cx="89917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500" spc="-1" strike="noStrike">
                <a:solidFill>
                  <a:srgbClr val="000000"/>
                </a:solidFill>
                <a:latin typeface="Impact"/>
              </a:rPr>
              <a:t>Komponenty systemu (FRED)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-82440" y="1371600"/>
            <a:ext cx="930276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500" spc="-1" strike="noStrike">
                <a:solidFill>
                  <a:srgbClr val="000000"/>
                </a:solidFill>
                <a:latin typeface="Impact"/>
              </a:rPr>
              <a:t>Komponenty systemu (FAVI)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76520" y="1600200"/>
            <a:ext cx="557028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500" spc="-1" strike="noStrike">
                <a:solidFill>
                  <a:srgbClr val="000000"/>
                </a:solidFill>
                <a:latin typeface="Impact"/>
              </a:rPr>
              <a:t>Główne klasy (FRED)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-228600" y="762120"/>
            <a:ext cx="9748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500" spc="-1" strike="noStrike">
                <a:solidFill>
                  <a:srgbClr val="000000"/>
                </a:solidFill>
                <a:latin typeface="Impact"/>
              </a:rPr>
              <a:t>Główne klasy (FAVI)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1027080"/>
            <a:ext cx="879156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500" spc="-1" strike="noStrike">
                <a:solidFill>
                  <a:srgbClr val="000000"/>
                </a:solidFill>
                <a:latin typeface="Impact"/>
              </a:rPr>
              <a:t>Model dynamiczny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-152280" y="1066680"/>
            <a:ext cx="951228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500" spc="-1" strike="noStrike">
                <a:solidFill>
                  <a:srgbClr val="000000"/>
                </a:solidFill>
                <a:latin typeface="Impact"/>
              </a:rPr>
              <a:t>FRED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90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2280" y="2344680"/>
          <a:ext cx="4343400" cy="30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344680"/>
                    <a:ext cx="434340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ójwymiarowy edytor organiz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półpraca z programami zewnętrznymi (ocena, konwersja lub mutacja genotypó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półpraca z bazą genotypów przez 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500" spc="-1" strike="noStrike">
                <a:solidFill>
                  <a:srgbClr val="000000"/>
                </a:solidFill>
                <a:latin typeface="Impact"/>
              </a:rPr>
              <a:t>Model dynamiczny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-304920" y="679320"/>
            <a:ext cx="936468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500" spc="-1" strike="noStrike">
                <a:solidFill>
                  <a:srgbClr val="000000"/>
                </a:solidFill>
                <a:latin typeface="Impact"/>
              </a:rPr>
              <a:t>Plan przedsięwzięcia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1640" y="22860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rdzo kolorowy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nad 30 zada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głównych czynników ryzy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1219320"/>
          <a:ext cx="404820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219320"/>
                    <a:ext cx="40482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500" spc="-1" strike="noStrike">
                <a:solidFill>
                  <a:srgbClr val="000000"/>
                </a:solidFill>
                <a:latin typeface="Impact"/>
              </a:rPr>
              <a:t>Główne zadania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136520"/>
            <a:ext cx="822960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Przyrost I.1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500" spc="-1" strike="noStrike">
                <a:solidFill>
                  <a:srgbClr val="000000"/>
                </a:solidFill>
                <a:latin typeface="Arial"/>
              </a:rPr>
              <a:t>Eksploracja technologii i dziedziny problem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500" spc="-1" strike="noStrike">
                <a:solidFill>
                  <a:srgbClr val="000000"/>
                </a:solidFill>
                <a:latin typeface="Arial"/>
              </a:rPr>
              <a:t>jGD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Przyrost I.2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500" spc="-1" strike="noStrike">
                <a:solidFill>
                  <a:srgbClr val="000000"/>
                </a:solidFill>
                <a:latin typeface="Arial"/>
              </a:rPr>
              <a:t>FAV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Przyrost II.1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500" spc="-1" strike="noStrike">
                <a:solidFill>
                  <a:srgbClr val="000000"/>
                </a:solidFill>
                <a:latin typeface="Arial"/>
              </a:rPr>
              <a:t>FRED – podstawowe operacje edycyj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Przyrost II.2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500" spc="-1" strike="noStrike">
                <a:solidFill>
                  <a:srgbClr val="000000"/>
                </a:solidFill>
                <a:latin typeface="Arial"/>
              </a:rPr>
              <a:t>FRED – zaawansowana edycja i współpraca z                                 systemami zewnętrznym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500" spc="-1" strike="noStrike">
                <a:solidFill>
                  <a:srgbClr val="000000"/>
                </a:solidFill>
                <a:latin typeface="Impact"/>
              </a:rPr>
              <a:t>Szacowany rozmiar i czas realizacji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793880"/>
            <a:ext cx="800100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Szacunkowy rozmiar artefaktó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Kod w Javie – 8300 lini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Diagramy UML – 95 elementó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Kod HTML (pomoc) – 13 str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Automatyczne przypadki testowe – 2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Ręczne przypadki testowe – 25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Szacunkowy czas realizacji przyrostó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Przyrost I.1 – 200 godzin (5 tygodn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Przyrost I.2 – 105 godzin (3 tygodni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Przyrost II.1 – 215 godzin (5 tygodn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Przyrost II.2 – 160 godzin (3 tygodni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Impact"/>
              </a:rPr>
              <a:t>Główne czynniki ryzyka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k czasu na realizację przedsięwzię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kani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izacja wymagań o wysokim priorytecie i stabiln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owan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ena postępów i rejestracja czasu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Łagodzenie skutkó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cyjny cykl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definiowane etapów których wynikiem jest częściowo funkcjonalny, działający 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295280"/>
            <a:ext cx="73738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Nagła śmierć wszystkich developer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600200"/>
            <a:ext cx="6791040" cy="37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ejasne sformułowanie wymaga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kan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rzystanie z listy dyskusyj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ładne przeczytanie dokument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owan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tk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porty z postęp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4840" y="1981080"/>
            <a:ext cx="6963480" cy="44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rak dostatecznej wiedzy o technolog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Unikan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ostarczenie tutoriali i narzę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worzenie prostych przykład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onitorowan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rzystanie z listy dyskusyj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Łagodzenie skutkó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mówienie problemu, propozycje rozwiąz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6160" y="2057400"/>
            <a:ext cx="726372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k dostatecznej wiedzy dziedzinow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kan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starczenie narzę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poznanie się z dokumentacją techniczną 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worzenie prostych przykład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owan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rzystanie z listy dyskusyj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600200"/>
            <a:ext cx="7924680" cy="34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Egzaminy lub praca develope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Unikan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kreślenie własnej dostępności w wiarygodny sposó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onitorowan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otygodniowe raporty czasu pracy poświęconego w danym i przewidywanego w przyszłym tygodn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Impact"/>
              </a:rPr>
              <a:t>FEC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Framsticks Experimentation Center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 – baza danych genotypów Framsticków z dostępem przez WW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938240" y="2736720"/>
          <a:ext cx="5224680" cy="391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38240" y="2736720"/>
                    <a:ext cx="5224680" cy="39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Impact"/>
              </a:rPr>
              <a:t>Dziękujemy za uwagę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3124080"/>
            <a:ext cx="582480" cy="669960"/>
          </a:xfrm>
          <a:custGeom>
            <a:avLst/>
            <a:gdLst/>
            <a:ahLst/>
            <a:rect l="l" t="t" r="r" b="b"/>
            <a:pathLst>
              <a:path w="613" h="704">
                <a:moveTo>
                  <a:pt x="187" y="255"/>
                </a:moveTo>
                <a:lnTo>
                  <a:pt x="222" y="156"/>
                </a:lnTo>
                <a:lnTo>
                  <a:pt x="267" y="58"/>
                </a:lnTo>
                <a:lnTo>
                  <a:pt x="333" y="9"/>
                </a:lnTo>
                <a:lnTo>
                  <a:pt x="427" y="0"/>
                </a:lnTo>
                <a:lnTo>
                  <a:pt x="501" y="33"/>
                </a:lnTo>
                <a:lnTo>
                  <a:pt x="555" y="87"/>
                </a:lnTo>
                <a:lnTo>
                  <a:pt x="595" y="185"/>
                </a:lnTo>
                <a:lnTo>
                  <a:pt x="613" y="304"/>
                </a:lnTo>
                <a:lnTo>
                  <a:pt x="613" y="427"/>
                </a:lnTo>
                <a:lnTo>
                  <a:pt x="582" y="563"/>
                </a:lnTo>
                <a:lnTo>
                  <a:pt x="501" y="649"/>
                </a:lnTo>
                <a:lnTo>
                  <a:pt x="422" y="704"/>
                </a:lnTo>
                <a:lnTo>
                  <a:pt x="346" y="698"/>
                </a:lnTo>
                <a:lnTo>
                  <a:pt x="280" y="641"/>
                </a:lnTo>
                <a:lnTo>
                  <a:pt x="222" y="542"/>
                </a:lnTo>
                <a:lnTo>
                  <a:pt x="182" y="456"/>
                </a:lnTo>
                <a:lnTo>
                  <a:pt x="182" y="345"/>
                </a:lnTo>
                <a:lnTo>
                  <a:pt x="0" y="320"/>
                </a:lnTo>
                <a:lnTo>
                  <a:pt x="23" y="259"/>
                </a:lnTo>
                <a:lnTo>
                  <a:pt x="187" y="25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24280" y="2635200"/>
            <a:ext cx="760320" cy="1501920"/>
          </a:xfrm>
          <a:custGeom>
            <a:avLst/>
            <a:gdLst/>
            <a:ahLst/>
            <a:rect l="l" t="t" r="r" b="b"/>
            <a:pathLst>
              <a:path w="798" h="1576">
                <a:moveTo>
                  <a:pt x="19" y="1564"/>
                </a:moveTo>
                <a:lnTo>
                  <a:pt x="0" y="1486"/>
                </a:lnTo>
                <a:lnTo>
                  <a:pt x="44" y="1423"/>
                </a:lnTo>
                <a:lnTo>
                  <a:pt x="190" y="1349"/>
                </a:lnTo>
                <a:lnTo>
                  <a:pt x="318" y="1267"/>
                </a:lnTo>
                <a:lnTo>
                  <a:pt x="441" y="1130"/>
                </a:lnTo>
                <a:lnTo>
                  <a:pt x="609" y="941"/>
                </a:lnTo>
                <a:lnTo>
                  <a:pt x="652" y="866"/>
                </a:lnTo>
                <a:lnTo>
                  <a:pt x="675" y="792"/>
                </a:lnTo>
                <a:lnTo>
                  <a:pt x="665" y="718"/>
                </a:lnTo>
                <a:lnTo>
                  <a:pt x="626" y="581"/>
                </a:lnTo>
                <a:lnTo>
                  <a:pt x="530" y="409"/>
                </a:lnTo>
                <a:lnTo>
                  <a:pt x="424" y="313"/>
                </a:lnTo>
                <a:lnTo>
                  <a:pt x="331" y="260"/>
                </a:lnTo>
                <a:lnTo>
                  <a:pt x="256" y="252"/>
                </a:lnTo>
                <a:lnTo>
                  <a:pt x="216" y="260"/>
                </a:lnTo>
                <a:lnTo>
                  <a:pt x="212" y="223"/>
                </a:lnTo>
                <a:lnTo>
                  <a:pt x="304" y="211"/>
                </a:lnTo>
                <a:lnTo>
                  <a:pt x="410" y="211"/>
                </a:lnTo>
                <a:lnTo>
                  <a:pt x="335" y="127"/>
                </a:lnTo>
                <a:lnTo>
                  <a:pt x="291" y="62"/>
                </a:lnTo>
                <a:lnTo>
                  <a:pt x="322" y="37"/>
                </a:lnTo>
                <a:lnTo>
                  <a:pt x="441" y="149"/>
                </a:lnTo>
                <a:lnTo>
                  <a:pt x="463" y="166"/>
                </a:lnTo>
                <a:lnTo>
                  <a:pt x="441" y="78"/>
                </a:lnTo>
                <a:lnTo>
                  <a:pt x="424" y="12"/>
                </a:lnTo>
                <a:lnTo>
                  <a:pt x="441" y="0"/>
                </a:lnTo>
                <a:lnTo>
                  <a:pt x="480" y="12"/>
                </a:lnTo>
                <a:lnTo>
                  <a:pt x="516" y="166"/>
                </a:lnTo>
                <a:lnTo>
                  <a:pt x="534" y="161"/>
                </a:lnTo>
                <a:lnTo>
                  <a:pt x="534" y="41"/>
                </a:lnTo>
                <a:lnTo>
                  <a:pt x="569" y="29"/>
                </a:lnTo>
                <a:lnTo>
                  <a:pt x="595" y="49"/>
                </a:lnTo>
                <a:lnTo>
                  <a:pt x="582" y="211"/>
                </a:lnTo>
                <a:lnTo>
                  <a:pt x="573" y="276"/>
                </a:lnTo>
                <a:lnTo>
                  <a:pt x="595" y="409"/>
                </a:lnTo>
                <a:lnTo>
                  <a:pt x="665" y="549"/>
                </a:lnTo>
                <a:lnTo>
                  <a:pt x="740" y="710"/>
                </a:lnTo>
                <a:lnTo>
                  <a:pt x="798" y="829"/>
                </a:lnTo>
                <a:lnTo>
                  <a:pt x="794" y="891"/>
                </a:lnTo>
                <a:lnTo>
                  <a:pt x="688" y="1003"/>
                </a:lnTo>
                <a:lnTo>
                  <a:pt x="542" y="1142"/>
                </a:lnTo>
                <a:lnTo>
                  <a:pt x="424" y="1279"/>
                </a:lnTo>
                <a:lnTo>
                  <a:pt x="278" y="1461"/>
                </a:lnTo>
                <a:lnTo>
                  <a:pt x="159" y="1552"/>
                </a:lnTo>
                <a:lnTo>
                  <a:pt x="67" y="1576"/>
                </a:lnTo>
                <a:lnTo>
                  <a:pt x="19" y="156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12880" y="3801960"/>
            <a:ext cx="1159200" cy="755640"/>
          </a:xfrm>
          <a:custGeom>
            <a:avLst/>
            <a:gdLst/>
            <a:ahLst/>
            <a:rect l="l" t="t" r="r" b="b"/>
            <a:pathLst>
              <a:path w="1461" h="794">
                <a:moveTo>
                  <a:pt x="297" y="641"/>
                </a:moveTo>
                <a:lnTo>
                  <a:pt x="508" y="633"/>
                </a:lnTo>
                <a:lnTo>
                  <a:pt x="702" y="608"/>
                </a:lnTo>
                <a:lnTo>
                  <a:pt x="822" y="579"/>
                </a:lnTo>
                <a:lnTo>
                  <a:pt x="994" y="485"/>
                </a:lnTo>
                <a:lnTo>
                  <a:pt x="1117" y="395"/>
                </a:lnTo>
                <a:lnTo>
                  <a:pt x="1276" y="284"/>
                </a:lnTo>
                <a:lnTo>
                  <a:pt x="1351" y="214"/>
                </a:lnTo>
                <a:lnTo>
                  <a:pt x="1409" y="165"/>
                </a:lnTo>
                <a:lnTo>
                  <a:pt x="1461" y="111"/>
                </a:lnTo>
                <a:lnTo>
                  <a:pt x="1461" y="54"/>
                </a:lnTo>
                <a:lnTo>
                  <a:pt x="1403" y="0"/>
                </a:lnTo>
                <a:lnTo>
                  <a:pt x="1368" y="13"/>
                </a:lnTo>
                <a:lnTo>
                  <a:pt x="1272" y="124"/>
                </a:lnTo>
                <a:lnTo>
                  <a:pt x="1166" y="251"/>
                </a:lnTo>
                <a:lnTo>
                  <a:pt x="1060" y="370"/>
                </a:lnTo>
                <a:lnTo>
                  <a:pt x="905" y="468"/>
                </a:lnTo>
                <a:lnTo>
                  <a:pt x="772" y="534"/>
                </a:lnTo>
                <a:lnTo>
                  <a:pt x="627" y="567"/>
                </a:lnTo>
                <a:lnTo>
                  <a:pt x="424" y="571"/>
                </a:lnTo>
                <a:lnTo>
                  <a:pt x="305" y="571"/>
                </a:lnTo>
                <a:lnTo>
                  <a:pt x="204" y="497"/>
                </a:lnTo>
                <a:lnTo>
                  <a:pt x="177" y="448"/>
                </a:lnTo>
                <a:lnTo>
                  <a:pt x="133" y="448"/>
                </a:lnTo>
                <a:lnTo>
                  <a:pt x="164" y="509"/>
                </a:lnTo>
                <a:lnTo>
                  <a:pt x="212" y="567"/>
                </a:lnTo>
                <a:lnTo>
                  <a:pt x="94" y="542"/>
                </a:lnTo>
                <a:lnTo>
                  <a:pt x="5" y="530"/>
                </a:lnTo>
                <a:lnTo>
                  <a:pt x="5" y="555"/>
                </a:lnTo>
                <a:lnTo>
                  <a:pt x="84" y="571"/>
                </a:lnTo>
                <a:lnTo>
                  <a:pt x="137" y="604"/>
                </a:lnTo>
                <a:lnTo>
                  <a:pt x="185" y="608"/>
                </a:lnTo>
                <a:lnTo>
                  <a:pt x="110" y="633"/>
                </a:lnTo>
                <a:lnTo>
                  <a:pt x="0" y="657"/>
                </a:lnTo>
                <a:lnTo>
                  <a:pt x="5" y="682"/>
                </a:lnTo>
                <a:lnTo>
                  <a:pt x="40" y="690"/>
                </a:lnTo>
                <a:lnTo>
                  <a:pt x="146" y="657"/>
                </a:lnTo>
                <a:lnTo>
                  <a:pt x="212" y="653"/>
                </a:lnTo>
                <a:lnTo>
                  <a:pt x="173" y="690"/>
                </a:lnTo>
                <a:lnTo>
                  <a:pt x="110" y="752"/>
                </a:lnTo>
                <a:lnTo>
                  <a:pt x="84" y="768"/>
                </a:lnTo>
                <a:lnTo>
                  <a:pt x="106" y="794"/>
                </a:lnTo>
                <a:lnTo>
                  <a:pt x="160" y="764"/>
                </a:lnTo>
                <a:lnTo>
                  <a:pt x="230" y="702"/>
                </a:lnTo>
                <a:lnTo>
                  <a:pt x="297" y="64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25920" y="3736800"/>
            <a:ext cx="815760" cy="1040040"/>
          </a:xfrm>
          <a:custGeom>
            <a:avLst/>
            <a:gdLst/>
            <a:ahLst/>
            <a:rect l="l" t="t" r="r" b="b"/>
            <a:pathLst>
              <a:path w="857" h="1094">
                <a:moveTo>
                  <a:pt x="54" y="124"/>
                </a:moveTo>
                <a:lnTo>
                  <a:pt x="89" y="37"/>
                </a:lnTo>
                <a:lnTo>
                  <a:pt x="147" y="0"/>
                </a:lnTo>
                <a:lnTo>
                  <a:pt x="199" y="0"/>
                </a:lnTo>
                <a:lnTo>
                  <a:pt x="253" y="25"/>
                </a:lnTo>
                <a:lnTo>
                  <a:pt x="305" y="74"/>
                </a:lnTo>
                <a:lnTo>
                  <a:pt x="332" y="160"/>
                </a:lnTo>
                <a:lnTo>
                  <a:pt x="346" y="247"/>
                </a:lnTo>
                <a:lnTo>
                  <a:pt x="371" y="333"/>
                </a:lnTo>
                <a:lnTo>
                  <a:pt x="421" y="427"/>
                </a:lnTo>
                <a:lnTo>
                  <a:pt x="504" y="526"/>
                </a:lnTo>
                <a:lnTo>
                  <a:pt x="585" y="591"/>
                </a:lnTo>
                <a:lnTo>
                  <a:pt x="703" y="641"/>
                </a:lnTo>
                <a:lnTo>
                  <a:pt x="805" y="715"/>
                </a:lnTo>
                <a:lnTo>
                  <a:pt x="857" y="788"/>
                </a:lnTo>
                <a:lnTo>
                  <a:pt x="848" y="850"/>
                </a:lnTo>
                <a:lnTo>
                  <a:pt x="836" y="924"/>
                </a:lnTo>
                <a:lnTo>
                  <a:pt x="796" y="973"/>
                </a:lnTo>
                <a:lnTo>
                  <a:pt x="730" y="1035"/>
                </a:lnTo>
                <a:lnTo>
                  <a:pt x="633" y="1080"/>
                </a:lnTo>
                <a:lnTo>
                  <a:pt x="558" y="1094"/>
                </a:lnTo>
                <a:lnTo>
                  <a:pt x="452" y="1072"/>
                </a:lnTo>
                <a:lnTo>
                  <a:pt x="355" y="1022"/>
                </a:lnTo>
                <a:lnTo>
                  <a:pt x="253" y="949"/>
                </a:lnTo>
                <a:lnTo>
                  <a:pt x="182" y="862"/>
                </a:lnTo>
                <a:lnTo>
                  <a:pt x="116" y="752"/>
                </a:lnTo>
                <a:lnTo>
                  <a:pt x="62" y="624"/>
                </a:lnTo>
                <a:lnTo>
                  <a:pt x="27" y="513"/>
                </a:lnTo>
                <a:lnTo>
                  <a:pt x="10" y="407"/>
                </a:lnTo>
                <a:lnTo>
                  <a:pt x="0" y="259"/>
                </a:lnTo>
                <a:lnTo>
                  <a:pt x="27" y="160"/>
                </a:lnTo>
                <a:lnTo>
                  <a:pt x="54" y="12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06960" y="4108320"/>
            <a:ext cx="1398600" cy="944640"/>
          </a:xfrm>
          <a:custGeom>
            <a:avLst/>
            <a:gdLst/>
            <a:ahLst/>
            <a:rect l="l" t="t" r="r" b="b"/>
            <a:pathLst>
              <a:path w="1469" h="992">
                <a:moveTo>
                  <a:pt x="163" y="314"/>
                </a:moveTo>
                <a:lnTo>
                  <a:pt x="305" y="201"/>
                </a:lnTo>
                <a:lnTo>
                  <a:pt x="477" y="99"/>
                </a:lnTo>
                <a:lnTo>
                  <a:pt x="587" y="37"/>
                </a:lnTo>
                <a:lnTo>
                  <a:pt x="674" y="17"/>
                </a:lnTo>
                <a:lnTo>
                  <a:pt x="745" y="0"/>
                </a:lnTo>
                <a:lnTo>
                  <a:pt x="807" y="25"/>
                </a:lnTo>
                <a:lnTo>
                  <a:pt x="846" y="103"/>
                </a:lnTo>
                <a:lnTo>
                  <a:pt x="873" y="314"/>
                </a:lnTo>
                <a:lnTo>
                  <a:pt x="873" y="568"/>
                </a:lnTo>
                <a:lnTo>
                  <a:pt x="873" y="732"/>
                </a:lnTo>
                <a:lnTo>
                  <a:pt x="904" y="832"/>
                </a:lnTo>
                <a:lnTo>
                  <a:pt x="966" y="816"/>
                </a:lnTo>
                <a:lnTo>
                  <a:pt x="1010" y="754"/>
                </a:lnTo>
                <a:lnTo>
                  <a:pt x="1098" y="683"/>
                </a:lnTo>
                <a:lnTo>
                  <a:pt x="1235" y="642"/>
                </a:lnTo>
                <a:lnTo>
                  <a:pt x="1328" y="642"/>
                </a:lnTo>
                <a:lnTo>
                  <a:pt x="1469" y="667"/>
                </a:lnTo>
                <a:lnTo>
                  <a:pt x="1460" y="716"/>
                </a:lnTo>
                <a:lnTo>
                  <a:pt x="1429" y="758"/>
                </a:lnTo>
                <a:lnTo>
                  <a:pt x="1381" y="766"/>
                </a:lnTo>
                <a:lnTo>
                  <a:pt x="1328" y="740"/>
                </a:lnTo>
                <a:lnTo>
                  <a:pt x="1249" y="708"/>
                </a:lnTo>
                <a:lnTo>
                  <a:pt x="1168" y="708"/>
                </a:lnTo>
                <a:lnTo>
                  <a:pt x="1062" y="771"/>
                </a:lnTo>
                <a:lnTo>
                  <a:pt x="997" y="865"/>
                </a:lnTo>
                <a:lnTo>
                  <a:pt x="983" y="943"/>
                </a:lnTo>
                <a:lnTo>
                  <a:pt x="957" y="992"/>
                </a:lnTo>
                <a:lnTo>
                  <a:pt x="851" y="988"/>
                </a:lnTo>
                <a:lnTo>
                  <a:pt x="846" y="914"/>
                </a:lnTo>
                <a:lnTo>
                  <a:pt x="811" y="808"/>
                </a:lnTo>
                <a:lnTo>
                  <a:pt x="798" y="695"/>
                </a:lnTo>
                <a:lnTo>
                  <a:pt x="807" y="548"/>
                </a:lnTo>
                <a:lnTo>
                  <a:pt x="794" y="338"/>
                </a:lnTo>
                <a:lnTo>
                  <a:pt x="786" y="201"/>
                </a:lnTo>
                <a:lnTo>
                  <a:pt x="759" y="152"/>
                </a:lnTo>
                <a:lnTo>
                  <a:pt x="705" y="103"/>
                </a:lnTo>
                <a:lnTo>
                  <a:pt x="649" y="103"/>
                </a:lnTo>
                <a:lnTo>
                  <a:pt x="568" y="152"/>
                </a:lnTo>
                <a:lnTo>
                  <a:pt x="463" y="248"/>
                </a:lnTo>
                <a:lnTo>
                  <a:pt x="331" y="371"/>
                </a:lnTo>
                <a:lnTo>
                  <a:pt x="199" y="486"/>
                </a:lnTo>
                <a:lnTo>
                  <a:pt x="132" y="523"/>
                </a:lnTo>
                <a:lnTo>
                  <a:pt x="53" y="523"/>
                </a:lnTo>
                <a:lnTo>
                  <a:pt x="0" y="470"/>
                </a:lnTo>
                <a:lnTo>
                  <a:pt x="4" y="383"/>
                </a:lnTo>
                <a:lnTo>
                  <a:pt x="58" y="338"/>
                </a:lnTo>
                <a:lnTo>
                  <a:pt x="118" y="326"/>
                </a:lnTo>
                <a:lnTo>
                  <a:pt x="163" y="31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6240" y="4449600"/>
            <a:ext cx="959040" cy="992520"/>
          </a:xfrm>
          <a:custGeom>
            <a:avLst/>
            <a:gdLst/>
            <a:ahLst/>
            <a:rect l="l" t="t" r="r" b="b"/>
            <a:pathLst>
              <a:path w="1004" h="1041">
                <a:moveTo>
                  <a:pt x="0" y="88"/>
                </a:moveTo>
                <a:lnTo>
                  <a:pt x="31" y="22"/>
                </a:lnTo>
                <a:lnTo>
                  <a:pt x="97" y="0"/>
                </a:lnTo>
                <a:lnTo>
                  <a:pt x="189" y="10"/>
                </a:lnTo>
                <a:lnTo>
                  <a:pt x="211" y="71"/>
                </a:lnTo>
                <a:lnTo>
                  <a:pt x="176" y="311"/>
                </a:lnTo>
                <a:lnTo>
                  <a:pt x="172" y="493"/>
                </a:lnTo>
                <a:lnTo>
                  <a:pt x="163" y="595"/>
                </a:lnTo>
                <a:lnTo>
                  <a:pt x="163" y="616"/>
                </a:lnTo>
                <a:lnTo>
                  <a:pt x="185" y="716"/>
                </a:lnTo>
                <a:lnTo>
                  <a:pt x="242" y="732"/>
                </a:lnTo>
                <a:lnTo>
                  <a:pt x="317" y="716"/>
                </a:lnTo>
                <a:lnTo>
                  <a:pt x="427" y="658"/>
                </a:lnTo>
                <a:lnTo>
                  <a:pt x="546" y="630"/>
                </a:lnTo>
                <a:lnTo>
                  <a:pt x="678" y="608"/>
                </a:lnTo>
                <a:lnTo>
                  <a:pt x="824" y="591"/>
                </a:lnTo>
                <a:lnTo>
                  <a:pt x="930" y="591"/>
                </a:lnTo>
                <a:lnTo>
                  <a:pt x="978" y="604"/>
                </a:lnTo>
                <a:lnTo>
                  <a:pt x="1004" y="634"/>
                </a:lnTo>
                <a:lnTo>
                  <a:pt x="992" y="679"/>
                </a:lnTo>
                <a:lnTo>
                  <a:pt x="925" y="716"/>
                </a:lnTo>
                <a:lnTo>
                  <a:pt x="863" y="769"/>
                </a:lnTo>
                <a:lnTo>
                  <a:pt x="805" y="844"/>
                </a:lnTo>
                <a:lnTo>
                  <a:pt x="770" y="906"/>
                </a:lnTo>
                <a:lnTo>
                  <a:pt x="741" y="968"/>
                </a:lnTo>
                <a:lnTo>
                  <a:pt x="718" y="1041"/>
                </a:lnTo>
                <a:lnTo>
                  <a:pt x="687" y="1041"/>
                </a:lnTo>
                <a:lnTo>
                  <a:pt x="660" y="1013"/>
                </a:lnTo>
                <a:lnTo>
                  <a:pt x="652" y="931"/>
                </a:lnTo>
                <a:lnTo>
                  <a:pt x="714" y="857"/>
                </a:lnTo>
                <a:lnTo>
                  <a:pt x="797" y="769"/>
                </a:lnTo>
                <a:lnTo>
                  <a:pt x="876" y="704"/>
                </a:lnTo>
                <a:lnTo>
                  <a:pt x="911" y="683"/>
                </a:lnTo>
                <a:lnTo>
                  <a:pt x="925" y="654"/>
                </a:lnTo>
                <a:lnTo>
                  <a:pt x="890" y="634"/>
                </a:lnTo>
                <a:lnTo>
                  <a:pt x="770" y="634"/>
                </a:lnTo>
                <a:lnTo>
                  <a:pt x="621" y="658"/>
                </a:lnTo>
                <a:lnTo>
                  <a:pt x="502" y="695"/>
                </a:lnTo>
                <a:lnTo>
                  <a:pt x="374" y="765"/>
                </a:lnTo>
                <a:lnTo>
                  <a:pt x="264" y="814"/>
                </a:lnTo>
                <a:lnTo>
                  <a:pt x="145" y="818"/>
                </a:lnTo>
                <a:lnTo>
                  <a:pt x="97" y="802"/>
                </a:lnTo>
                <a:lnTo>
                  <a:pt x="70" y="740"/>
                </a:lnTo>
                <a:lnTo>
                  <a:pt x="52" y="654"/>
                </a:lnTo>
                <a:lnTo>
                  <a:pt x="43" y="493"/>
                </a:lnTo>
                <a:lnTo>
                  <a:pt x="26" y="207"/>
                </a:lnTo>
                <a:lnTo>
                  <a:pt x="0" y="8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040360" y="4381560"/>
            <a:ext cx="580680" cy="1140840"/>
            <a:chOff x="5040360" y="4381560"/>
            <a:chExt cx="580680" cy="1140840"/>
          </a:xfrm>
        </p:grpSpPr>
        <p:sp>
          <p:nvSpPr>
            <p:cNvPr id="142" name=""/>
            <p:cNvSpPr/>
            <p:nvPr/>
          </p:nvSpPr>
          <p:spPr>
            <a:xfrm>
              <a:off x="5164200" y="5019480"/>
              <a:ext cx="456840" cy="138960"/>
            </a:xfrm>
            <a:custGeom>
              <a:avLst/>
              <a:gdLst/>
              <a:ahLst/>
              <a:rect l="l" t="t" r="r" b="b"/>
              <a:pathLst>
                <a:path w="478" h="148">
                  <a:moveTo>
                    <a:pt x="478" y="148"/>
                  </a:moveTo>
                  <a:lnTo>
                    <a:pt x="231" y="41"/>
                  </a:lnTo>
                  <a:lnTo>
                    <a:pt x="68" y="0"/>
                  </a:lnTo>
                  <a:lnTo>
                    <a:pt x="14" y="0"/>
                  </a:lnTo>
                  <a:lnTo>
                    <a:pt x="0" y="37"/>
                  </a:lnTo>
                  <a:lnTo>
                    <a:pt x="31" y="66"/>
                  </a:lnTo>
                  <a:lnTo>
                    <a:pt x="99" y="74"/>
                  </a:lnTo>
                  <a:lnTo>
                    <a:pt x="258" y="103"/>
                  </a:lnTo>
                  <a:lnTo>
                    <a:pt x="478" y="14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40360" y="5143680"/>
              <a:ext cx="131400" cy="378720"/>
            </a:xfrm>
            <a:custGeom>
              <a:avLst/>
              <a:gdLst/>
              <a:ahLst/>
              <a:rect l="l" t="t" r="r" b="b"/>
              <a:pathLst>
                <a:path w="137" h="399">
                  <a:moveTo>
                    <a:pt x="137" y="399"/>
                  </a:moveTo>
                  <a:lnTo>
                    <a:pt x="133" y="203"/>
                  </a:lnTo>
                  <a:lnTo>
                    <a:pt x="97" y="54"/>
                  </a:lnTo>
                  <a:lnTo>
                    <a:pt x="58" y="0"/>
                  </a:lnTo>
                  <a:lnTo>
                    <a:pt x="27" y="0"/>
                  </a:lnTo>
                  <a:lnTo>
                    <a:pt x="0" y="17"/>
                  </a:lnTo>
                  <a:lnTo>
                    <a:pt x="0" y="74"/>
                  </a:lnTo>
                  <a:lnTo>
                    <a:pt x="66" y="252"/>
                  </a:lnTo>
                  <a:lnTo>
                    <a:pt x="137" y="39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29000" y="4381560"/>
              <a:ext cx="287640" cy="144720"/>
            </a:xfrm>
            <a:custGeom>
              <a:avLst/>
              <a:gdLst/>
              <a:ahLst/>
              <a:rect l="l" t="t" r="r" b="b"/>
              <a:pathLst>
                <a:path w="300" h="152">
                  <a:moveTo>
                    <a:pt x="0" y="99"/>
                  </a:moveTo>
                  <a:lnTo>
                    <a:pt x="57" y="41"/>
                  </a:lnTo>
                  <a:lnTo>
                    <a:pt x="139" y="4"/>
                  </a:lnTo>
                  <a:lnTo>
                    <a:pt x="232" y="0"/>
                  </a:lnTo>
                  <a:lnTo>
                    <a:pt x="300" y="12"/>
                  </a:lnTo>
                  <a:lnTo>
                    <a:pt x="193" y="25"/>
                  </a:lnTo>
                  <a:lnTo>
                    <a:pt x="152" y="49"/>
                  </a:lnTo>
                  <a:lnTo>
                    <a:pt x="112" y="86"/>
                  </a:lnTo>
                  <a:lnTo>
                    <a:pt x="94" y="127"/>
                  </a:lnTo>
                  <a:lnTo>
                    <a:pt x="57" y="152"/>
                  </a:lnTo>
                  <a:lnTo>
                    <a:pt x="14" y="14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 txBox="1"/>
          <p:nvPr/>
        </p:nvSpPr>
        <p:spPr>
          <a:xfrm>
            <a:off x="3657600" y="2209680"/>
            <a:ext cx="2149560" cy="777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t last !!!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4345920" y="5486400"/>
            <a:ext cx="758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© J.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500" spc="-1" strike="noStrike">
                <a:solidFill>
                  <a:srgbClr val="000000"/>
                </a:solidFill>
                <a:latin typeface="Impact"/>
              </a:rPr>
              <a:t>FAVI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280" y="2971800"/>
          <a:ext cx="426744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971800"/>
                    <a:ext cx="42674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838080" y="1295280"/>
            <a:ext cx="762012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10000"/>
              </a:lnSpc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Framsticks Applet VIewer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łodsza siostra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 FRE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95680" y="3429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51"/>
              </a:spcBef>
              <a:spcAft>
                <a:spcPts val="18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apl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spcAft>
                <a:spcPts val="18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wizualizacja osobnik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spcAft>
                <a:spcPts val="18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brak możliwości edycji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500" spc="-1" strike="noStrike">
                <a:solidFill>
                  <a:srgbClr val="000000"/>
                </a:solidFill>
                <a:latin typeface="Impact"/>
              </a:rPr>
              <a:t>Zespół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3 ro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Łukasz Gien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Łukasz Kał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omasz Kotwic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aciej Krysztof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4 ro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ernard Lange (kierownik projekt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ichał Wróblewski (główny anality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5 ro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arcin Okoń (prowadzący spotkan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ominik Smogór (kierownik weryfikacji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D05515_" descr=""/>
          <p:cNvPicPr/>
          <p:nvPr/>
        </p:nvPicPr>
        <p:blipFill>
          <a:blip r:embed="rId2"/>
          <a:stretch/>
        </p:blipFill>
        <p:spPr>
          <a:xfrm>
            <a:off x="6172200" y="1219320"/>
            <a:ext cx="222732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500" spc="-1" strike="noStrike">
                <a:solidFill>
                  <a:srgbClr val="000000"/>
                </a:solidFill>
                <a:latin typeface="Impact"/>
              </a:rPr>
              <a:t>Klien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57440" y="3200400"/>
            <a:ext cx="3352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3400" spc="-1" strike="noStrike">
                <a:solidFill>
                  <a:srgbClr val="000000"/>
                </a:solidFill>
                <a:latin typeface="Arial"/>
              </a:rPr>
              <a:t>dr inż. Maciej Komosińsk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k3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439128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Impact"/>
              </a:rPr>
              <a:t>Strona WWW projektu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Arial"/>
              </a:rPr>
              <a:t>http:/www.frams.alife.pl/dev/f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52480" y="2133720"/>
          <a:ext cx="5999400" cy="44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2133720"/>
                    <a:ext cx="59994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500" spc="-1" strike="noStrike">
                <a:solidFill>
                  <a:srgbClr val="000000"/>
                </a:solidFill>
                <a:latin typeface="Impact"/>
              </a:rPr>
              <a:t>Przebieg spotkań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5410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Środa, godz. 16: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Specjalne podziękowania za cierpliwość dla Pana mgr Wojciechowski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Spotkania także poza SDS-am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zęste kontakty mailowe (grupa dyskusyjna Fred Team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E01561_" descr=""/>
          <p:cNvPicPr/>
          <p:nvPr/>
        </p:nvPicPr>
        <p:blipFill>
          <a:blip r:embed="rId2"/>
          <a:stretch/>
        </p:blipFill>
        <p:spPr>
          <a:xfrm>
            <a:off x="5562720" y="2666880"/>
            <a:ext cx="343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Impact"/>
              </a:rPr>
              <a:t>Co i jak to będzie robić </a:t>
            </a:r>
            <a:r>
              <a:rPr b="0" lang="en-US" sz="55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43400" y="20574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ymagania funkcjonalne (5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ymagania niefunkcjonalne (1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y akceptacyj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S00975_" descr=""/>
          <p:cNvPicPr/>
          <p:nvPr/>
        </p:nvPicPr>
        <p:blipFill>
          <a:blip r:embed="rId2"/>
          <a:stretch/>
        </p:blipFill>
        <p:spPr>
          <a:xfrm>
            <a:off x="380880" y="2840040"/>
            <a:ext cx="36705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Impact"/>
              </a:rPr>
              <a:t>Jak to będzie wyglądać </a:t>
            </a:r>
            <a:r>
              <a:rPr b="0" lang="en-US" sz="55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95320" y="24382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Dokument UI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Działający prototyp FRED-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04920" y="1838160"/>
          <a:ext cx="3930480" cy="120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38160"/>
                    <a:ext cx="3930480" cy="12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57040" y="3753000"/>
          <a:ext cx="4010040" cy="219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7040" y="3753000"/>
                    <a:ext cx="401004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6:22:28Z</dcterms:created>
  <dc:creator>Michał Wróblewski</dc:creator>
  <dc:description/>
  <dc:language>en-US</dc:language>
  <cp:lastModifiedBy>Ralphie</cp:lastModifiedBy>
  <dcterms:modified xsi:type="dcterms:W3CDTF">2002-01-30T10:02:50Z</dcterms:modified>
  <cp:revision>970</cp:revision>
  <dc:subject/>
  <dc:title>Prezentacja programu PowerPoint</dc:title>
</cp:coreProperties>
</file>